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8.wmf" ContentType="image/x-wmf"/>
  <Override PartName="/ppt/media/image12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6.png" ContentType="image/png"/>
  <Override PartName="/ppt/media/image9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26.jpeg" ContentType="image/jpeg"/>
  <Override PartName="/ppt/media/image24.png" ContentType="image/png"/>
  <Override PartName="/ppt/media/image23.jpeg" ContentType="image/jpeg"/>
  <Override PartName="/ppt/media/image21.wmf" ContentType="image/x-wmf"/>
  <Override PartName="/ppt/media/image19.wmf" ContentType="image/x-wmf"/>
  <Override PartName="/ppt/media/image1.wmf" ContentType="image/x-wmf"/>
  <Override PartName="/ppt/media/image17.wmf" ContentType="image/x-wmf"/>
  <Override PartName="/ppt/media/image15.jpeg" ContentType="image/jpeg"/>
  <Override PartName="/ppt/media/image14.jpeg" ContentType="image/jpeg"/>
  <Override PartName="/ppt/media/image16.wmf" ContentType="image/x-wmf"/>
  <Override PartName="/ppt/media/image3.jpeg" ContentType="image/jpeg"/>
  <Override PartName="/ppt/media/image27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4471-8A6B-477C-A55E-DBC994BCE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09FD-1F76-4104-A8F8-3751BEE9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35AF-6136-43E7-9034-5B8EF89BE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1B2C-AB95-4F24-B772-C62F84961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538E-53DE-4D45-9B9C-87738916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EFF3-ED2B-494E-9D4B-235263DE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3741-167F-4604-B10C-B1767A59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4E2B-6AFF-439A-A83A-F2BA97C3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5488-D321-49A1-98C3-B8898E5E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0D3D-9CA2-4FFF-866F-82991ADD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33EE-9318-4A18-84F7-97183040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6816-96FB-436B-8799-FB18E809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333F-DC1B-4D59-9CE8-7CB6C62439B9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etecting climate change using real observations, real instruments and real people – how estimating trends is sometimes the easy 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Blair Trew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Bureau of Meteor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700" spc="-1" strike="noStrike">
                <a:solidFill>
                  <a:srgbClr val="000000"/>
                </a:solidFill>
                <a:latin typeface="Arial"/>
              </a:rPr>
              <a:t>Some things which can affect temperature data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24040"/>
            <a:ext cx="822960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ite mo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hanges in instr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hanges in local sit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bserving practice changes (e.g. observation 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How these factors can impact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Content Placeholder 93"/>
          <p:cNvGraphicFramePr/>
          <p:nvPr/>
        </p:nvGraphicFramePr>
        <p:xfrm>
          <a:off x="1224000" y="1587600"/>
          <a:ext cx="6327720" cy="467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Content Placeholder 9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4000" y="1587600"/>
                    <a:ext cx="632772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Text Box 4"/>
          <p:cNvSpPr/>
          <p:nvPr/>
        </p:nvSpPr>
        <p:spPr>
          <a:xfrm rot="16200000">
            <a:off x="-159120" y="3996000"/>
            <a:ext cx="243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10000"/>
                </a:solidFill>
                <a:latin typeface="Arial"/>
                <a:ea typeface="ＭＳ Ｐゴシック"/>
              </a:rPr>
              <a:t>Temperature (</a:t>
            </a:r>
            <a:r>
              <a:rPr b="0" lang="en-US" sz="1600" spc="-1" strike="noStrike">
                <a:solidFill>
                  <a:srgbClr val="010000"/>
                </a:solidFill>
                <a:latin typeface="Arial"/>
                <a:ea typeface="ＭＳ Ｐゴシック"/>
              </a:rPr>
              <a:t>°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How these factors can impact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Content Placeholder 93"/>
          <p:cNvGraphicFramePr/>
          <p:nvPr/>
        </p:nvGraphicFramePr>
        <p:xfrm>
          <a:off x="1179360" y="1625760"/>
          <a:ext cx="6328080" cy="467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Content Placeholder 9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9360" y="1625760"/>
                    <a:ext cx="632808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 Box 4"/>
          <p:cNvSpPr/>
          <p:nvPr/>
        </p:nvSpPr>
        <p:spPr>
          <a:xfrm>
            <a:off x="1770120" y="4546440"/>
            <a:ext cx="1669680" cy="824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-1948 site 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st Office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ar oc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3983760" y="2351160"/>
            <a:ext cx="2504880" cy="580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st-1948 site at airport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veral km i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01320" y="6232680"/>
            <a:ext cx="86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mogeneous data give us confidence that changes in the observations reflect real changes in the clim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 rot="16200000">
            <a:off x="-330480" y="3754440"/>
            <a:ext cx="265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10000"/>
                </a:solidFill>
                <a:latin typeface="Arial"/>
                <a:ea typeface="ＭＳ Ｐゴシック"/>
              </a:rPr>
              <a:t>Temperature (</a:t>
            </a:r>
            <a:r>
              <a:rPr b="0" lang="en-US" sz="1600" spc="-1" strike="noStrike">
                <a:solidFill>
                  <a:srgbClr val="010000"/>
                </a:solidFill>
                <a:latin typeface="Arial"/>
                <a:ea typeface="ＭＳ Ｐゴシック"/>
              </a:rPr>
              <a:t>°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gabo island lighthouse (084016) annual  graph"/>
          <p:cNvPicPr/>
          <p:nvPr/>
        </p:nvPicPr>
        <p:blipFill>
          <a:blip r:embed="rId1"/>
          <a:stretch/>
        </p:blipFill>
        <p:spPr>
          <a:xfrm>
            <a:off x="250920" y="1197000"/>
            <a:ext cx="8675640" cy="43387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1618920" y="189000"/>
            <a:ext cx="560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Impact of instrument shelter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2627280" y="1916280"/>
            <a:ext cx="2324160" cy="520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tevenson screen insta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July 19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9"/>
          <p:cNvSpPr/>
          <p:nvPr/>
        </p:nvSpPr>
        <p:spPr>
          <a:xfrm flipH="1">
            <a:off x="2555640" y="2421000"/>
            <a:ext cx="21564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362520" y="5948280"/>
            <a:ext cx="5770800" cy="520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tevenson screen introduced progressively through 1890s and 1900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(SA and Queensland mostly by early 1890s, Vic/NSW largely 1906-0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http://sdbweb.bom.gov.au:8891/sitesdb/plsql/SDB_stored_object_show.p?IN_OBJECT_ID=398873&amp;IN_BOGUS=file.jpg"/>
          <p:cNvPicPr/>
          <p:nvPr/>
        </p:nvPicPr>
        <p:blipFill>
          <a:blip r:embed="rId1"/>
          <a:stretch/>
        </p:blipFill>
        <p:spPr>
          <a:xfrm>
            <a:off x="324000" y="1413000"/>
            <a:ext cx="3960720" cy="2960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http://sdbweb.bom.gov.au:8891/sitesdb/plsql/SDB_stored_object_show.p?IN_OBJECT_ID=104167&amp;IN_BOGUS=file.jpg"/>
          <p:cNvPicPr/>
          <p:nvPr/>
        </p:nvPicPr>
        <p:blipFill>
          <a:blip r:embed="rId2"/>
          <a:stretch/>
        </p:blipFill>
        <p:spPr>
          <a:xfrm>
            <a:off x="4643280" y="1395360"/>
            <a:ext cx="3903840" cy="29289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8"/>
          <p:cNvSpPr/>
          <p:nvPr/>
        </p:nvSpPr>
        <p:spPr>
          <a:xfrm>
            <a:off x="1618560" y="404640"/>
            <a:ext cx="546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ite condition can make a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425520" y="5227560"/>
            <a:ext cx="7287120" cy="307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End of irrigation (c. 2007) resulted in ~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C increase in dry-season maximum tempera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1982520" y="4365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5851080" y="43848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What do we do with inhomogeneous site dat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homogeneous data – where changes in the data do not reflect changes in the background climate (in statistical terms, different parts of the sample are not drawn from the same popul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eed to identify inhomogene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nce inhomogeneities are found, adjust to remov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Homogenisation – how do we detect issu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24040"/>
            <a:ext cx="822960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etadata (information about the data) – e.g. station his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tatistical testing – comparison with other sites in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 ACORN-SAT, statistical testing used candidate station compared one-by-one with its 40 best-correlated neighb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igital metadata database (SitesDB) since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ost pre-1997 metadata in hard copy files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tation reports may not capture changes outside immediate vicinity of the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etwork-wide standards also relevant (e.g. observation times, manual v AWS observ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Robe example 1"/>
          <p:cNvPicPr/>
          <p:nvPr/>
        </p:nvPicPr>
        <p:blipFill>
          <a:blip r:embed="rId1"/>
          <a:stretch/>
        </p:blipFill>
        <p:spPr>
          <a:xfrm>
            <a:off x="250920" y="620640"/>
            <a:ext cx="4100400" cy="5843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Robe example 2"/>
          <p:cNvPicPr/>
          <p:nvPr/>
        </p:nvPicPr>
        <p:blipFill>
          <a:blip r:embed="rId2"/>
          <a:stretch/>
        </p:blipFill>
        <p:spPr>
          <a:xfrm>
            <a:off x="4643280" y="620640"/>
            <a:ext cx="418788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tatistical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umerous techniques exist (with similar levels of performance) for detecting whether a significant breakpoint exists in a time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an improve signal-to-noise ratio by using difference with well-correlated and well-constructed reference series (e.g. based on nearby st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ifficult to detect breakpoints reliably near start or end of a time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Object 4"/>
          <p:cNvGraphicFramePr/>
          <p:nvPr/>
        </p:nvGraphicFramePr>
        <p:xfrm>
          <a:off x="324000" y="1125360"/>
          <a:ext cx="5208480" cy="303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25360"/>
                    <a:ext cx="5208480" cy="30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Picture 6" descr="Annual Mean Temperature for Australia"/>
          <p:cNvPicPr/>
          <p:nvPr/>
        </p:nvPicPr>
        <p:blipFill>
          <a:blip r:embed="rId3"/>
          <a:stretch/>
        </p:blipFill>
        <p:spPr>
          <a:xfrm>
            <a:off x="5003640" y="3825720"/>
            <a:ext cx="3767400" cy="282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" name="Text Box 7"/>
          <p:cNvSpPr/>
          <p:nvPr/>
        </p:nvSpPr>
        <p:spPr>
          <a:xfrm>
            <a:off x="1088280" y="4241880"/>
            <a:ext cx="238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Global temperatures, 1950-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591120" y="279360"/>
            <a:ext cx="83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Time series of global and Australian mean temper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5"/>
          <p:cNvGraphicFramePr/>
          <p:nvPr/>
        </p:nvGraphicFramePr>
        <p:xfrm>
          <a:off x="324000" y="3716280"/>
          <a:ext cx="4248000" cy="278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716280"/>
                    <a:ext cx="424800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6"/>
          <p:cNvGraphicFramePr/>
          <p:nvPr/>
        </p:nvGraphicFramePr>
        <p:xfrm>
          <a:off x="324000" y="744480"/>
          <a:ext cx="4248000" cy="2779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744480"/>
                    <a:ext cx="4248000" cy="27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Text Box 7"/>
          <p:cNvSpPr/>
          <p:nvPr/>
        </p:nvSpPr>
        <p:spPr>
          <a:xfrm>
            <a:off x="249120" y="115920"/>
            <a:ext cx="86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How a reference series helps in detecting inhomogene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4770720" y="1144440"/>
            <a:ext cx="251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elbourne an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inimum temper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4770720" y="4097160"/>
            <a:ext cx="239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inimum 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ifference betw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elbourne and r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Vic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Adjustment – why it isn’t as easy as it look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3"/>
          <p:cNvGraphicFramePr/>
          <p:nvPr/>
        </p:nvGraphicFramePr>
        <p:xfrm>
          <a:off x="392040" y="1984320"/>
          <a:ext cx="4038840" cy="324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1984320"/>
                    <a:ext cx="4038840" cy="32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Text Box 5"/>
          <p:cNvSpPr/>
          <p:nvPr/>
        </p:nvSpPr>
        <p:spPr>
          <a:xfrm>
            <a:off x="479520" y="5229360"/>
            <a:ext cx="3542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nthly mean maximum tempe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fferences, Port Macqua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5280480" y="6004080"/>
            <a:ext cx="285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nter minimum temperat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fferences , Port Macquar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7"/>
          <p:cNvGraphicFramePr/>
          <p:nvPr/>
        </p:nvGraphicFramePr>
        <p:xfrm>
          <a:off x="4556160" y="1787400"/>
          <a:ext cx="4464000" cy="4216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56160" y="1787400"/>
                    <a:ext cx="4464000" cy="42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Text Box 8"/>
          <p:cNvSpPr/>
          <p:nvPr/>
        </p:nvSpPr>
        <p:spPr>
          <a:xfrm>
            <a:off x="5984640" y="5649840"/>
            <a:ext cx="13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10000"/>
                </a:solidFill>
                <a:latin typeface="Arial"/>
                <a:ea typeface="ＭＳ Ｐゴシック"/>
              </a:rPr>
              <a:t>Temperature (</a:t>
            </a:r>
            <a:r>
              <a:rPr b="0" lang="en-US" sz="1200" spc="-1" strike="noStrike">
                <a:solidFill>
                  <a:srgbClr val="010000"/>
                </a:solidFill>
                <a:latin typeface="Arial"/>
                <a:ea typeface="ＭＳ Ｐゴシック"/>
              </a:rPr>
              <a:t>°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 rot="16200000">
            <a:off x="3776040" y="3353040"/>
            <a:ext cx="15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10000"/>
                </a:solidFill>
                <a:latin typeface="Arial"/>
                <a:ea typeface="ＭＳ Ｐゴシック"/>
              </a:rPr>
              <a:t>Difference (</a:t>
            </a:r>
            <a:r>
              <a:rPr b="0" lang="en-US" sz="1200" spc="-1" strike="noStrike">
                <a:solidFill>
                  <a:srgbClr val="010000"/>
                </a:solidFill>
                <a:latin typeface="Arial"/>
                <a:ea typeface="ＭＳ Ｐゴシック"/>
              </a:rPr>
              <a:t>°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 rot="16200000">
            <a:off x="-529920" y="3353760"/>
            <a:ext cx="158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10000"/>
                </a:solidFill>
                <a:latin typeface="Arial"/>
                <a:ea typeface="ＭＳ Ｐゴシック"/>
              </a:rPr>
              <a:t>Difference (</a:t>
            </a:r>
            <a:r>
              <a:rPr b="0" lang="en-US" sz="1200" spc="-1" strike="noStrike">
                <a:solidFill>
                  <a:srgbClr val="010000"/>
                </a:solidFill>
                <a:latin typeface="Arial"/>
                <a:ea typeface="ＭＳ Ｐゴシック"/>
              </a:rPr>
              <a:t>°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The adjustment process – Mack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3"/>
          <p:cNvGraphicFramePr/>
          <p:nvPr/>
        </p:nvGraphicFramePr>
        <p:xfrm>
          <a:off x="1228680" y="1676520"/>
          <a:ext cx="6222960" cy="467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8680" y="1676520"/>
                    <a:ext cx="622296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 Box 4"/>
          <p:cNvSpPr/>
          <p:nvPr/>
        </p:nvSpPr>
        <p:spPr>
          <a:xfrm>
            <a:off x="3724920" y="3633840"/>
            <a:ext cx="14212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te move 19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5"/>
          <p:cNvSpPr/>
          <p:nvPr/>
        </p:nvSpPr>
        <p:spPr>
          <a:xfrm flipH="1" flipV="1">
            <a:off x="3873600" y="3186000"/>
            <a:ext cx="325440" cy="44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"/>
          <p:cNvSpPr/>
          <p:nvPr/>
        </p:nvSpPr>
        <p:spPr>
          <a:xfrm flipH="1">
            <a:off x="3873600" y="3946680"/>
            <a:ext cx="325440" cy="90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2377080" y="4016520"/>
            <a:ext cx="14212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te move 19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>
            <a:off x="3200400" y="4330800"/>
            <a:ext cx="968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 flipV="1">
            <a:off x="3200400" y="3405240"/>
            <a:ext cx="96840" cy="6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2959560" y="2368440"/>
            <a:ext cx="18280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reen change 19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1"/>
          <p:cNvSpPr/>
          <p:nvPr/>
        </p:nvSpPr>
        <p:spPr>
          <a:xfrm flipH="1">
            <a:off x="2790720" y="2682720"/>
            <a:ext cx="168480" cy="2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900360" y="2548080"/>
            <a:ext cx="423720" cy="24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10000"/>
                </a:solidFill>
                <a:latin typeface="Arial"/>
                <a:ea typeface="ＭＳ Ｐゴシック"/>
              </a:rPr>
              <a:t>Temperature (</a:t>
            </a:r>
            <a:r>
              <a:rPr b="0" lang="en-US" sz="1600" spc="-1" strike="noStrike">
                <a:solidFill>
                  <a:srgbClr val="010000"/>
                </a:solidFill>
                <a:latin typeface="Arial"/>
                <a:ea typeface="ＭＳ Ｐゴシック"/>
              </a:rPr>
              <a:t>°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Object 5"/>
          <p:cNvGraphicFramePr/>
          <p:nvPr/>
        </p:nvGraphicFramePr>
        <p:xfrm>
          <a:off x="250920" y="723960"/>
          <a:ext cx="8713800" cy="545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723960"/>
                    <a:ext cx="871380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Text Box 6"/>
          <p:cNvSpPr/>
          <p:nvPr/>
        </p:nvSpPr>
        <p:spPr>
          <a:xfrm>
            <a:off x="249840" y="189000"/>
            <a:ext cx="86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How network changes can affect a meteorological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Object 2"/>
          <p:cNvGraphicFramePr/>
          <p:nvPr/>
        </p:nvGraphicFramePr>
        <p:xfrm>
          <a:off x="250920" y="723960"/>
          <a:ext cx="8713800" cy="545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723960"/>
                    <a:ext cx="871380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3"/>
          <p:cNvSpPr/>
          <p:nvPr/>
        </p:nvSpPr>
        <p:spPr>
          <a:xfrm>
            <a:off x="249840" y="189000"/>
            <a:ext cx="86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How network changes can affect a meteorological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040200" y="2274840"/>
            <a:ext cx="2108160" cy="733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1944: first stations available on Tasmanian Central Platea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4211640" y="3213000"/>
            <a:ext cx="2757600" cy="733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1960s: data become available (sometimes) from Alpine resorts, Mount Welling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5848200" y="4075200"/>
            <a:ext cx="2540160" cy="733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Mid 1990s: automatic stations provide consistent data from several Alpine 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7"/>
          <p:cNvSpPr/>
          <p:nvPr/>
        </p:nvSpPr>
        <p:spPr>
          <a:xfrm flipH="1">
            <a:off x="3276720" y="2997360"/>
            <a:ext cx="287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8"/>
          <p:cNvSpPr/>
          <p:nvPr/>
        </p:nvSpPr>
        <p:spPr>
          <a:xfrm flipH="1">
            <a:off x="4716360" y="3933720"/>
            <a:ext cx="2872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9"/>
          <p:cNvSpPr/>
          <p:nvPr/>
        </p:nvSpPr>
        <p:spPr>
          <a:xfrm flipH="1">
            <a:off x="7092720" y="479736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How much does all of this matt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0" descr="figure07"/>
          <p:cNvPicPr/>
          <p:nvPr/>
        </p:nvPicPr>
        <p:blipFill>
          <a:blip r:embed="rId1"/>
          <a:stretch/>
        </p:blipFill>
        <p:spPr>
          <a:xfrm>
            <a:off x="457200" y="2146320"/>
            <a:ext cx="4041720" cy="34322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figure08"/>
          <p:cNvPicPr/>
          <p:nvPr/>
        </p:nvPicPr>
        <p:blipFill>
          <a:blip r:embed="rId2"/>
          <a:stretch/>
        </p:blipFill>
        <p:spPr>
          <a:xfrm>
            <a:off x="4643280" y="2158920"/>
            <a:ext cx="4043520" cy="34084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2"/>
          <p:cNvSpPr/>
          <p:nvPr/>
        </p:nvSpPr>
        <p:spPr>
          <a:xfrm>
            <a:off x="1917000" y="608796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xi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6371640" y="608004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ni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ome additional challenges for global data 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arge data voids, especially in remote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mbining land and ocean temper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nly a small proportion of data are exchanged internatio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Volume of data makes station-level homogenisation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Very limited access to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Fig 1: Global map"/>
          <p:cNvPicPr/>
          <p:nvPr/>
        </p:nvPicPr>
        <p:blipFill>
          <a:blip r:embed="rId1"/>
          <a:stretch/>
        </p:blipFill>
        <p:spPr>
          <a:xfrm>
            <a:off x="179280" y="765000"/>
            <a:ext cx="4176720" cy="2479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http://www.ncdc.noaa.gov/sotc/service/global/map-blended-mntp/201303.gif"/>
          <p:cNvPicPr/>
          <p:nvPr/>
        </p:nvPicPr>
        <p:blipFill>
          <a:blip r:embed="rId2"/>
          <a:stretch/>
        </p:blipFill>
        <p:spPr>
          <a:xfrm>
            <a:off x="324000" y="3429000"/>
            <a:ext cx="3887640" cy="30034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8"/>
          <p:cNvSpPr/>
          <p:nvPr/>
        </p:nvSpPr>
        <p:spPr>
          <a:xfrm>
            <a:off x="248400" y="189000"/>
            <a:ext cx="87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Three different views of global temperatures in March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4502520" y="14130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3710880" y="37162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C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2" descr="MARCH-2013_map_th"/>
          <p:cNvPicPr/>
          <p:nvPr/>
        </p:nvPicPr>
        <p:blipFill>
          <a:blip r:embed="rId3"/>
          <a:stretch/>
        </p:blipFill>
        <p:spPr>
          <a:xfrm>
            <a:off x="4572000" y="3573360"/>
            <a:ext cx="4292640" cy="26593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3"/>
          <p:cNvSpPr/>
          <p:nvPr/>
        </p:nvSpPr>
        <p:spPr>
          <a:xfrm>
            <a:off x="6951240" y="623736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UAH (satelli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1042920" y="907920"/>
            <a:ext cx="7029360" cy="50007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"/>
          <p:cNvSpPr/>
          <p:nvPr/>
        </p:nvSpPr>
        <p:spPr>
          <a:xfrm>
            <a:off x="-720" y="260280"/>
            <a:ext cx="916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Despite different methods of construction, global data sets produce similar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What steps are there in producing time series like the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roducing a point-based temperature time s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onverting absolute values into anomalies from a reference-period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patial analysis and aggregration into an areal a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96003 Butlers Gorge"/>
          <p:cNvPicPr/>
          <p:nvPr/>
        </p:nvPicPr>
        <p:blipFill>
          <a:blip r:embed="rId1"/>
          <a:stretch/>
        </p:blipFill>
        <p:spPr>
          <a:xfrm>
            <a:off x="1476360" y="1106640"/>
            <a:ext cx="6264360" cy="47005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663120" y="279360"/>
            <a:ext cx="79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What does a temperature measurement site look l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adelaide"/>
          <p:cNvPicPr/>
          <p:nvPr/>
        </p:nvPicPr>
        <p:blipFill>
          <a:blip r:embed="rId1"/>
          <a:stretch/>
        </p:blipFill>
        <p:spPr>
          <a:xfrm>
            <a:off x="1332000" y="1484280"/>
            <a:ext cx="6410160" cy="37004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466920" y="549360"/>
            <a:ext cx="84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Different instrument shelters have been used histor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badsite"/>
          <p:cNvPicPr/>
          <p:nvPr/>
        </p:nvPicPr>
        <p:blipFill>
          <a:blip r:embed="rId1"/>
          <a:stretch/>
        </p:blipFill>
        <p:spPr>
          <a:xfrm>
            <a:off x="826920" y="981000"/>
            <a:ext cx="7520040" cy="5112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825120" y="189000"/>
            <a:ext cx="751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nd some sites aren’t as good as they should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What do we have to work with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1930 temperature network"/>
          <p:cNvPicPr/>
          <p:nvPr/>
        </p:nvPicPr>
        <p:blipFill>
          <a:blip r:embed="rId1"/>
          <a:stretch/>
        </p:blipFill>
        <p:spPr>
          <a:xfrm>
            <a:off x="209520" y="1873080"/>
            <a:ext cx="4218120" cy="396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2010 temperature network"/>
          <p:cNvPicPr/>
          <p:nvPr/>
        </p:nvPicPr>
        <p:blipFill>
          <a:blip r:embed="rId2"/>
          <a:stretch/>
        </p:blipFill>
        <p:spPr>
          <a:xfrm>
            <a:off x="4643280" y="1873080"/>
            <a:ext cx="4249800" cy="38973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1520280" y="577044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9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6543360" y="57229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How many long-term sites do we hav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3"/>
          <p:cNvGraphicFramePr/>
          <p:nvPr/>
        </p:nvGraphicFramePr>
        <p:xfrm>
          <a:off x="2071800" y="1859040"/>
          <a:ext cx="5164200" cy="414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1800" y="1859040"/>
                    <a:ext cx="5164200" cy="41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Text Box 4"/>
          <p:cNvSpPr/>
          <p:nvPr/>
        </p:nvSpPr>
        <p:spPr>
          <a:xfrm>
            <a:off x="2925000" y="6200640"/>
            <a:ext cx="27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Red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– open; </a:t>
            </a:r>
            <a:r>
              <a:rPr b="0" lang="en-AU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blu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- clo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936720" y="3125880"/>
            <a:ext cx="113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10000"/>
                </a:solidFill>
                <a:latin typeface="Arial"/>
                <a:ea typeface="ＭＳ Ｐゴシック"/>
              </a:rPr>
              <a:t>Number of s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514320" y="57992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10000"/>
                </a:solidFill>
                <a:latin typeface="Arial"/>
                <a:ea typeface="ＭＳ Ｐゴシック"/>
              </a:rPr>
              <a:t>Years of rec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The ACORN-SAT station networ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Object 3"/>
          <p:cNvGraphicFramePr/>
          <p:nvPr/>
        </p:nvGraphicFramePr>
        <p:xfrm>
          <a:off x="239760" y="1795320"/>
          <a:ext cx="5411880" cy="506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1795320"/>
                    <a:ext cx="5411880" cy="50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Text Box 4"/>
          <p:cNvSpPr/>
          <p:nvPr/>
        </p:nvSpPr>
        <p:spPr>
          <a:xfrm>
            <a:off x="4924440" y="5595840"/>
            <a:ext cx="352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Red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– stations in 2001 daily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600" spc="-1" strike="noStrike">
                <a:solidFill>
                  <a:srgbClr val="010000"/>
                </a:solidFill>
                <a:latin typeface="Arial"/>
                <a:ea typeface="ＭＳ Ｐゴシック"/>
              </a:rPr>
              <a:t>Black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– stations added in this 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4832280" y="2077920"/>
            <a:ext cx="382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2 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y records go back to 1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may be added in fu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once digit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persedes two existing data sets: Annual (starting 1910) and daily (starting 195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9T02:19:07Z</dcterms:created>
  <dc:creator>bct</dc:creator>
  <dc:description/>
  <dc:language>en-US</dc:language>
  <cp:lastModifiedBy>Blair Trewin</cp:lastModifiedBy>
  <dcterms:modified xsi:type="dcterms:W3CDTF">2014-09-16T00:24:25Z</dcterms:modified>
  <cp:revision>9</cp:revision>
  <dc:subject/>
  <dc:title>Detecting climate change using real observations, real instruments and real people – how estimating trends is sometimes the easy part</dc:title>
</cp:coreProperties>
</file>