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8.wmf" ContentType="image/x-wmf"/>
  <Override PartName="/ppt/media/image12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4.png" ContentType="image/png"/>
  <Override PartName="/ppt/media/image23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3.jpeg" ContentType="image/jpeg"/>
  <Override PartName="/ppt/media/image27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A9D-A71C-484F-81E1-EA4A6F64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AEF-3FC6-40F0-B780-6103CA63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87B-740E-4E3B-B041-1C1B741B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927-0610-4BED-8C26-C27BE909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EA7-13FB-4C4F-B94D-DFEDBB26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31F-2AB0-487C-A0FB-0AC78D79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9EC-49EF-419A-BA28-04065DF0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548-D600-4F97-AB99-89EE69A9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BFC-D50C-47B4-92B2-BE5CDABB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8E3-876F-4F03-AAB4-FB88014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F51-336D-4412-ADD7-591044D9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5D9-6096-45E8-B1C9-3E2774F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7848-B8FA-494F-83D3-75D51407D4C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tecting climate change using real observations, real instruments and real people – how estimating trends is sometimes the easy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Blair Tre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Bureau of Meteo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700" spc="-1" strike="noStrike">
                <a:solidFill>
                  <a:srgbClr val="000000"/>
                </a:solidFill>
                <a:latin typeface="Arial"/>
              </a:rPr>
              <a:t>Some things which can affect temperature dat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2404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ite m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nges in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nges in local sit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bserving practice changes (e.g. observation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How these factors can impact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Content Placeholder 93"/>
          <p:cNvGraphicFramePr/>
          <p:nvPr/>
        </p:nvGraphicFramePr>
        <p:xfrm>
          <a:off x="1224000" y="1587600"/>
          <a:ext cx="6327720" cy="46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Content Placeholder 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587600"/>
                    <a:ext cx="63277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4"/>
          <p:cNvSpPr/>
          <p:nvPr/>
        </p:nvSpPr>
        <p:spPr>
          <a:xfrm rot="16200000">
            <a:off x="-159120" y="3996000"/>
            <a:ext cx="243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emperature (</a:t>
            </a:r>
            <a:r>
              <a:rPr b="0" lang="en-US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How these factors can impact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Content Placeholder 93"/>
          <p:cNvGraphicFramePr/>
          <p:nvPr/>
        </p:nvGraphicFramePr>
        <p:xfrm>
          <a:off x="1179360" y="1625760"/>
          <a:ext cx="6328080" cy="46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Content Placeholder 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625760"/>
                    <a:ext cx="63280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4"/>
          <p:cNvSpPr/>
          <p:nvPr/>
        </p:nvSpPr>
        <p:spPr>
          <a:xfrm>
            <a:off x="1770120" y="4546440"/>
            <a:ext cx="166968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-1948 site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t Offic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 oc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83760" y="2351160"/>
            <a:ext cx="250488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t-1948 site at airport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veral km 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01320" y="623268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ogeneous data give us confidence that changes in the observations reflect real changes in the 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 rot="16200000">
            <a:off x="-330480" y="375444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emperature (</a:t>
            </a:r>
            <a:r>
              <a:rPr b="0" lang="en-US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gabo island lighthouse (084016) annual  graph"/>
          <p:cNvPicPr/>
          <p:nvPr/>
        </p:nvPicPr>
        <p:blipFill>
          <a:blip r:embed="rId1"/>
          <a:stretch/>
        </p:blipFill>
        <p:spPr>
          <a:xfrm>
            <a:off x="250920" y="1197000"/>
            <a:ext cx="8675640" cy="4338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1618920" y="18900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mpact of instrument shelt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627280" y="1916280"/>
            <a:ext cx="2324160" cy="52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evenson screen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July 19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2555640" y="2421000"/>
            <a:ext cx="215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62520" y="5948280"/>
            <a:ext cx="5770800" cy="52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evenson screen introduced progressively through 1890s and 190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(SA and Queensland mostly by early 1890s, Vic/NSW largely 1906-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sdbweb.bom.gov.au:8891/sitesdb/plsql/SDB_stored_object_show.p?IN_OBJECT_ID=398873&amp;IN_BOGUS=file.jpg"/>
          <p:cNvPicPr/>
          <p:nvPr/>
        </p:nvPicPr>
        <p:blipFill>
          <a:blip r:embed="rId1"/>
          <a:stretch/>
        </p:blipFill>
        <p:spPr>
          <a:xfrm>
            <a:off x="324000" y="1413000"/>
            <a:ext cx="3960720" cy="2960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http://sdbweb.bom.gov.au:8891/sitesdb/plsql/SDB_stored_object_show.p?IN_OBJECT_ID=104167&amp;IN_BOGUS=file.jpg"/>
          <p:cNvPicPr/>
          <p:nvPr/>
        </p:nvPicPr>
        <p:blipFill>
          <a:blip r:embed="rId2"/>
          <a:stretch/>
        </p:blipFill>
        <p:spPr>
          <a:xfrm>
            <a:off x="4643280" y="1395360"/>
            <a:ext cx="3903840" cy="29289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618560" y="40464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ite condition can make a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25520" y="5227560"/>
            <a:ext cx="728712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nd of irrigation (c. 2007) resulted in ~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C increase in dry-season maximum temper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982520" y="4365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851080" y="4384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do we do with inhomogeneous site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homogeneous data – where changes in the data do not reflect changes in the background climate (in statistical terms, different parts of the sample are not drawn from the same po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ed to identify inhomogene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ce inhomogeneities are found, adjust to remov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omogenisation – how do we detect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2404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tadata (information about the data) – e.g. station hi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atistical testing – comparison with other sites i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ACORN-SAT, statistical testing used candidate station compared one-by-one with its 40 best-correlated neighb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gital metadata database (SitesDB) since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pre-1997 metadata in hard copy fil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ation reports may not capture changes outside immediate vicinity of th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twork-wide standards also relevant (e.g. observation times, manual v AWS observ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Robe example 1"/>
          <p:cNvPicPr/>
          <p:nvPr/>
        </p:nvPicPr>
        <p:blipFill>
          <a:blip r:embed="rId1"/>
          <a:stretch/>
        </p:blipFill>
        <p:spPr>
          <a:xfrm>
            <a:off x="250920" y="620640"/>
            <a:ext cx="4100400" cy="584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Robe example 2"/>
          <p:cNvPicPr/>
          <p:nvPr/>
        </p:nvPicPr>
        <p:blipFill>
          <a:blip r:embed="rId2"/>
          <a:stretch/>
        </p:blipFill>
        <p:spPr>
          <a:xfrm>
            <a:off x="4643280" y="620640"/>
            <a:ext cx="418788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tatistical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umerous techniques exist (with similar levels of performance) for detecting whether a significant breakpoint exists in a 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n improve signal-to-noise ratio by using difference with well-correlated and well-constructed reference series (e.g. based on nearby s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icult to detect breakpoints reliably near start or end of a 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4"/>
          <p:cNvGraphicFramePr/>
          <p:nvPr/>
        </p:nvGraphicFramePr>
        <p:xfrm>
          <a:off x="324000" y="1125360"/>
          <a:ext cx="5208480" cy="30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520848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6" descr="Annual Mean Temperature for Australia"/>
          <p:cNvPicPr/>
          <p:nvPr/>
        </p:nvPicPr>
        <p:blipFill>
          <a:blip r:embed="rId3"/>
          <a:stretch/>
        </p:blipFill>
        <p:spPr>
          <a:xfrm>
            <a:off x="5003640" y="3825720"/>
            <a:ext cx="3767400" cy="28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1088280" y="424188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lobal temperatures, 1950-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91120" y="27936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ime series of global and Australian mean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5"/>
          <p:cNvGraphicFramePr/>
          <p:nvPr/>
        </p:nvGraphicFramePr>
        <p:xfrm>
          <a:off x="324000" y="3716280"/>
          <a:ext cx="4248000" cy="27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716280"/>
                    <a:ext cx="42480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6"/>
          <p:cNvGraphicFramePr/>
          <p:nvPr/>
        </p:nvGraphicFramePr>
        <p:xfrm>
          <a:off x="324000" y="744480"/>
          <a:ext cx="4248000" cy="277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744480"/>
                    <a:ext cx="4248000" cy="27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7"/>
          <p:cNvSpPr/>
          <p:nvPr/>
        </p:nvSpPr>
        <p:spPr>
          <a:xfrm>
            <a:off x="249120" y="115920"/>
            <a:ext cx="86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a reference series helps in detecting inhomogene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770720" y="114444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lbourne an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nimum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770720" y="4097160"/>
            <a:ext cx="23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nimum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fference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lbourne and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c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djustment – why it isn’t as easy as it loo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92040" y="1984320"/>
          <a:ext cx="4038840" cy="32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984320"/>
                    <a:ext cx="403884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5"/>
          <p:cNvSpPr/>
          <p:nvPr/>
        </p:nvSpPr>
        <p:spPr>
          <a:xfrm>
            <a:off x="479520" y="5229360"/>
            <a:ext cx="354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hly mean maximum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ces, Port Macqua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280480" y="6004080"/>
            <a:ext cx="28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minimum tempera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ces , Port Macqua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4556160" y="1787400"/>
          <a:ext cx="4464000" cy="421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56160" y="1787400"/>
                    <a:ext cx="446400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8"/>
          <p:cNvSpPr/>
          <p:nvPr/>
        </p:nvSpPr>
        <p:spPr>
          <a:xfrm>
            <a:off x="5984640" y="56498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emperature (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 rot="16200000">
            <a:off x="3776040" y="335304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Difference (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 rot="16200000">
            <a:off x="-529920" y="3353760"/>
            <a:ext cx="158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Difference (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adjustment process – Mack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1228680" y="1676520"/>
          <a:ext cx="6222960" cy="46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8680" y="1676520"/>
                    <a:ext cx="62229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3724920" y="3633840"/>
            <a:ext cx="14212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e move 19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H="1" flipV="1">
            <a:off x="3873600" y="3186000"/>
            <a:ext cx="32544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3873600" y="3946680"/>
            <a:ext cx="325440" cy="90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377080" y="4016520"/>
            <a:ext cx="14212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e move 19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3200400" y="4330800"/>
            <a:ext cx="968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3200400" y="3405240"/>
            <a:ext cx="9684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959560" y="2368440"/>
            <a:ext cx="1828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een change 19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790720" y="2682720"/>
            <a:ext cx="16848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900360" y="2548080"/>
            <a:ext cx="42372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emperature (</a:t>
            </a:r>
            <a:r>
              <a:rPr b="0" lang="en-US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5"/>
          <p:cNvGraphicFramePr/>
          <p:nvPr/>
        </p:nvGraphicFramePr>
        <p:xfrm>
          <a:off x="250920" y="723960"/>
          <a:ext cx="8713800" cy="54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23960"/>
                    <a:ext cx="871380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6"/>
          <p:cNvSpPr/>
          <p:nvPr/>
        </p:nvSpPr>
        <p:spPr>
          <a:xfrm>
            <a:off x="249840" y="189000"/>
            <a:ext cx="86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network changes can affect a meteorologic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250920" y="723960"/>
          <a:ext cx="8713800" cy="54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23960"/>
                    <a:ext cx="871380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3"/>
          <p:cNvSpPr/>
          <p:nvPr/>
        </p:nvSpPr>
        <p:spPr>
          <a:xfrm>
            <a:off x="249840" y="189000"/>
            <a:ext cx="86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network changes can affect a meteorologic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040200" y="2274840"/>
            <a:ext cx="2108160" cy="733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1944: first stations available on Tasmanian Central Plat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211640" y="3213000"/>
            <a:ext cx="2757600" cy="733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1960s: data become available (sometimes) from Alpine resorts, Mount Welling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848200" y="4075200"/>
            <a:ext cx="2540160" cy="733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id 1990s: automatic stations provide consistent data from several Alpine 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 flipH="1">
            <a:off x="3276720" y="2997360"/>
            <a:ext cx="287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 flipH="1">
            <a:off x="4716360" y="393372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 flipH="1">
            <a:off x="7092720" y="4797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How much does all of this mat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figure07"/>
          <p:cNvPicPr/>
          <p:nvPr/>
        </p:nvPicPr>
        <p:blipFill>
          <a:blip r:embed="rId1"/>
          <a:stretch/>
        </p:blipFill>
        <p:spPr>
          <a:xfrm>
            <a:off x="457200" y="2146320"/>
            <a:ext cx="4041720" cy="343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figure08"/>
          <p:cNvPicPr/>
          <p:nvPr/>
        </p:nvPicPr>
        <p:blipFill>
          <a:blip r:embed="rId2"/>
          <a:stretch/>
        </p:blipFill>
        <p:spPr>
          <a:xfrm>
            <a:off x="4643280" y="2158920"/>
            <a:ext cx="4043520" cy="3408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2"/>
          <p:cNvSpPr/>
          <p:nvPr/>
        </p:nvSpPr>
        <p:spPr>
          <a:xfrm>
            <a:off x="1917000" y="60879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371640" y="60800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ome additional challenges for global data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rge data voids, especially in remot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bining land and ocean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ly a small proportion of data are exchanged interna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me of data makes station-level homogenisation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y limited access to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Fig 1: Global map"/>
          <p:cNvPicPr/>
          <p:nvPr/>
        </p:nvPicPr>
        <p:blipFill>
          <a:blip r:embed="rId1"/>
          <a:stretch/>
        </p:blipFill>
        <p:spPr>
          <a:xfrm>
            <a:off x="179280" y="765000"/>
            <a:ext cx="4176720" cy="24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http://www.ncdc.noaa.gov/sotc/service/global/map-blended-mntp/201303.gif"/>
          <p:cNvPicPr/>
          <p:nvPr/>
        </p:nvPicPr>
        <p:blipFill>
          <a:blip r:embed="rId2"/>
          <a:stretch/>
        </p:blipFill>
        <p:spPr>
          <a:xfrm>
            <a:off x="324000" y="3429000"/>
            <a:ext cx="3887640" cy="3003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248400" y="189000"/>
            <a:ext cx="87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ree different views of global temperatures in March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502520" y="14130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710880" y="3716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MARCH-2013_map_th"/>
          <p:cNvPicPr/>
          <p:nvPr/>
        </p:nvPicPr>
        <p:blipFill>
          <a:blip r:embed="rId3"/>
          <a:stretch/>
        </p:blipFill>
        <p:spPr>
          <a:xfrm>
            <a:off x="4572000" y="3573360"/>
            <a:ext cx="4292640" cy="2659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3"/>
          <p:cNvSpPr/>
          <p:nvPr/>
        </p:nvSpPr>
        <p:spPr>
          <a:xfrm>
            <a:off x="6951240" y="6237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AH (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029360" cy="50007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-720" y="260280"/>
            <a:ext cx="91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spite different methods of construction, global data sets produce similar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at steps are there in producing time series like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ducing a point-based temperature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verting absolute values into anomalies from a reference-period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atial analysis and aggregration into an areal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96003 Butlers Gorge"/>
          <p:cNvPicPr/>
          <p:nvPr/>
        </p:nvPicPr>
        <p:blipFill>
          <a:blip r:embed="rId1"/>
          <a:stretch/>
        </p:blipFill>
        <p:spPr>
          <a:xfrm>
            <a:off x="1476360" y="1106640"/>
            <a:ext cx="6264360" cy="4700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63120" y="27936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at does a temperature measurement site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delaide"/>
          <p:cNvPicPr/>
          <p:nvPr/>
        </p:nvPicPr>
        <p:blipFill>
          <a:blip r:embed="rId1"/>
          <a:stretch/>
        </p:blipFill>
        <p:spPr>
          <a:xfrm>
            <a:off x="1332000" y="1484280"/>
            <a:ext cx="6410160" cy="3700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6920" y="549360"/>
            <a:ext cx="84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ifferent instrument shelters have been used histo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adsite"/>
          <p:cNvPicPr/>
          <p:nvPr/>
        </p:nvPicPr>
        <p:blipFill>
          <a:blip r:embed="rId1"/>
          <a:stretch/>
        </p:blipFill>
        <p:spPr>
          <a:xfrm>
            <a:off x="826920" y="981000"/>
            <a:ext cx="7520040" cy="5112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825120" y="18900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nd some sites aren’t as good as they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do we have to work with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1930 temperature network"/>
          <p:cNvPicPr/>
          <p:nvPr/>
        </p:nvPicPr>
        <p:blipFill>
          <a:blip r:embed="rId1"/>
          <a:stretch/>
        </p:blipFill>
        <p:spPr>
          <a:xfrm>
            <a:off x="209520" y="1873080"/>
            <a:ext cx="4218120" cy="396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2010 temperature network"/>
          <p:cNvPicPr/>
          <p:nvPr/>
        </p:nvPicPr>
        <p:blipFill>
          <a:blip r:embed="rId2"/>
          <a:stretch/>
        </p:blipFill>
        <p:spPr>
          <a:xfrm>
            <a:off x="4643280" y="1873080"/>
            <a:ext cx="4249800" cy="3897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520280" y="57704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543360" y="5722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ow many long-term sites do we ha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2071800" y="1859040"/>
          <a:ext cx="5164200" cy="414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859040"/>
                    <a:ext cx="516420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2925000" y="620064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open; </a:t>
            </a:r>
            <a:r>
              <a:rPr b="0" lang="en-AU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blu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36720" y="3125880"/>
            <a:ext cx="11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Number of 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514320" y="57992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Years of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ACORN-SAT station net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239760" y="1795320"/>
          <a:ext cx="5411880" cy="50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795320"/>
                    <a:ext cx="541188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4"/>
          <p:cNvSpPr/>
          <p:nvPr/>
        </p:nvSpPr>
        <p:spPr>
          <a:xfrm>
            <a:off x="4924440" y="5595840"/>
            <a:ext cx="352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stations in 2001 daily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Black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stations added in this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832280" y="2077920"/>
            <a:ext cx="382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2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records go back to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may be added in fu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once digit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sedes two existing data sets: Annual (starting 1910) and daily (starting 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02:19:07Z</dcterms:created>
  <dc:creator>bct</dc:creator>
  <dc:description/>
  <dc:language>en-US</dc:language>
  <cp:lastModifiedBy>Blair Trewin</cp:lastModifiedBy>
  <dcterms:modified xsi:type="dcterms:W3CDTF">2014-09-16T00:24:25Z</dcterms:modified>
  <cp:revision>9</cp:revision>
  <dc:subject/>
  <dc:title>Detecting climate change using real observations, real instruments and real people – how estimating trends is sometimes the easy part</dc:title>
</cp:coreProperties>
</file>